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B74-AAE6-4EB4-9593-07737100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C86-7C1F-4FE6-A841-CA6ED8D8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5B7-C16E-413B-9CD5-A5B23DF3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845-814B-4F14-A0B9-DAD6D737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62B7-3F7A-46FC-A86C-FC7D06C0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BAFF-B092-47AC-834E-F9B65025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6290-3FDB-45ED-89B4-01F520C0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4321-A647-4B87-A46D-6C342AB0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56FA-11E4-4104-AF55-156EB893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6272-6764-42D8-8A2F-59934122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D917-66A8-4A7B-8BFB-44A9364B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660-61F8-44EF-88AE-FDF4AE22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7267-CBF3-4DD4-B421-735B15E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86F1-B1E9-4764-A652-CED3994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4708-5952-42E8-85B5-23DACFF1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223D-3B0F-4FE0-8237-860282BB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5E3B-FF0B-4858-80F2-585168E0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09A-FD49-47E7-9330-BB2A31D7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1A4-2874-4A43-8B07-D348CF42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FF5-C185-4123-9B32-BB6BF247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011-076C-4145-A7CF-8CB0AE66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86B-1D47-4F70-B041-56545750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D3F-F69C-4B8E-A4A1-8DD91AC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C73-2B08-4D5D-BC97-4BA586B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C031-F24E-4C20-9A10-3EFFA06C59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FD0F-E6CD-4074-83AA-DAA302F420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ppbillon.ru/images/e-mail.png" TargetMode="External"/><Relationship Id="rId3" Type="http://schemas.openxmlformats.org/officeDocument/2006/relationships/hyperlink" Target="http://inzider.ru/shownews/picture/big/10116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388120"/>
            <a:ext cx="83581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680" y="457164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nppbillon.ru/images/e-mail.p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nzider.ru/shownews/picture/big/10116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8" name="Picture 5" descr="d:\Мои документы\Мои рисунки\e-mail.png"/>
          <p:cNvPicPr/>
          <p:nvPr/>
        </p:nvPicPr>
        <p:blipFill>
          <a:blip r:embed="rId4"/>
          <a:stretch/>
        </p:blipFill>
        <p:spPr>
          <a:xfrm rot="20579400">
            <a:off x="717120" y="12171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5"/>
          <a:stretch/>
        </p:blipFill>
        <p:spPr>
          <a:xfrm>
            <a:off x="571680" y="2857680"/>
            <a:ext cx="1738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46:18Z</dcterms:created>
  <dc:creator>Comp</dc:creator>
  <dc:description/>
  <dc:language>en-US</dc:language>
  <cp:lastModifiedBy>Comp</cp:lastModifiedBy>
  <dcterms:modified xsi:type="dcterms:W3CDTF">2011-07-27T08:51:37Z</dcterms:modified>
  <cp:revision>3</cp:revision>
  <dc:subject/>
  <dc:title>Слайд 1</dc:title>
</cp:coreProperties>
</file>